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0D8-29C8-4381-A130-4A29BD61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021-6BD6-4974-A26A-46DA5CE0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561-7FCD-4694-95E3-8DEEAE69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69A-47B4-41F9-ADC6-B178E8AC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B79-18D4-4A0B-BBB2-9E5ECA9A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420-EF38-4C6F-B3D6-E35055E7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A3F-5A4C-416D-8EC2-5257341A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45C-9A95-4695-B648-C7C9EA29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7FC-1FB0-48CE-8E7A-5CA9AEDC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669-3FA3-4A7B-A27A-56A348D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339-3BEA-4E8D-9C90-47B076AF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DDE-B933-46C3-8D54-44B00027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090A-FADC-40AE-8D02-279EE616A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1655017uXcjBcRsbi_ph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77120" y="4114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 الراعي الصالحَ يبذُلُ نفسَهُ في سبيل الخرا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457200"/>
            <a:ext cx="1600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راعي الصالحَ يبذُلُ نفسَهُ في سبيل الخراف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5215564EUYNjVXDay_ph" descr=""/>
          <p:cNvPicPr/>
          <p:nvPr/>
        </p:nvPicPr>
        <p:blipFill>
          <a:blip r:embed="rId1"/>
          <a:stretch/>
        </p:blipFill>
        <p:spPr>
          <a:xfrm>
            <a:off x="0" y="0"/>
            <a:ext cx="6486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0" y="457200"/>
            <a:ext cx="198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راعي الصالح تسمعُ صوتَهُ جميع رعيت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811b" descr=""/>
          <p:cNvPicPr/>
          <p:nvPr/>
        </p:nvPicPr>
        <p:blipFill>
          <a:blip r:embed="rId1"/>
          <a:stretch/>
        </p:blipFill>
        <p:spPr>
          <a:xfrm>
            <a:off x="0" y="0"/>
            <a:ext cx="71690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15200" y="304920"/>
            <a:ext cx="1523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آب يحبك لأنك تبذُلُ نفسك في سبيلِ خِرافِكَ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0:51:53Z</dcterms:created>
  <dc:creator>USER</dc:creator>
  <dc:description/>
  <dc:language>en-US</dc:language>
  <cp:lastModifiedBy>USER</cp:lastModifiedBy>
  <dcterms:modified xsi:type="dcterms:W3CDTF">2002-11-28T20:53:21Z</dcterms:modified>
  <cp:revision>1</cp:revision>
  <dc:subject/>
  <dc:title>PowerPoint Presentation</dc:title>
</cp:coreProperties>
</file>